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407-0480-4D92-BD5E-8F144C03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491-E53C-446D-8E39-9C789DCC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6E6-BAF8-4A67-9139-FB49C5D1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8E8-0A5E-4EA4-835C-15435174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0FF4-A283-49FC-B5FF-B3CB7FE7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BA77-EE00-4EB8-957F-EEC33E8F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EB71-11BF-4B3B-9B66-3F46D4AD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9887-6F2D-45CF-9DC4-E5674420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E33F-66A3-4718-899B-6CA38316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3506-D5D2-4BB6-A9CE-B3339E2A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486A-E867-4055-9311-C75C94FA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F71-9A96-4A84-B2F6-7D0FF7BB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9DB3-086A-4015-9761-9B926AA5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AA5E-BEE7-43DE-95C4-6753E2ED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946E-1B8A-4308-A23E-E30426A9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40A0-7638-4AE4-BCF9-76EE9160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D51F-57E9-4A4D-8F8A-D832C701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F7266-9B4A-4976-BD84-E855195A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09C03-E566-48FB-A3B2-A5D9B48A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EB68C-76A0-41BC-AD02-07063E7C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707E4-1FC4-4203-A905-D26DDB33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E769B-3A2F-4281-B789-331F96B1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CFC-8D62-4325-AC8D-F092B279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4654D-7F8D-48B8-A51F-6502DF4D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0373C-A113-4736-BC38-355CE403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187DF-0042-4D58-BC02-B0653657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7A205-D9A8-4650-9362-F26265E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FD23C-22F1-48C5-98EC-3C110AA1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41F9D-743A-4C9E-BEFB-1271654B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11F9E-4F9C-46B3-BE43-312CA62A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88CDF-3D5B-4E4A-B254-6F84B177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B1C5-B80D-4476-98C4-58819887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B2134-2F50-4393-9579-F6919960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642-DC89-4800-BDB6-7205087E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4EA0-107F-40D2-8DB6-E389DFE3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AC3B-5324-4061-81D4-A173BAB3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59E5-CDCD-4931-BC2D-2AB753AE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5119-2FB2-4747-8349-9E09D59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6DE3F-D730-4B92-8D09-D8CE5DF6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5C55F-3830-4F57-A7F5-E6CBFCC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4C70-8152-45B3-AD77-4AC7B72C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16C2F-3861-4907-8762-0299F661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68932-30D7-4D75-92FA-50A0A7CD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71E0F-1ED8-4C54-8E2A-B89ABE85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FC9-68FA-4780-8347-498A9D04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59361-53CB-4989-ADCC-638CCEC3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0D205-D42F-4D43-BFEB-94D57B0D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EA7CE-F1B6-4972-9A38-2A6D7540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E6FB4-38EA-4E7F-B974-F4973A2E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2E418-C4FE-4F06-A9E7-4122DA91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06285-1EC1-4175-B3E8-14215D6E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3CE93-11CE-444C-8709-39E3787C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8071F-EDBB-473C-8086-21DBBFA7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88BDE-EA80-4FE3-9749-FAFFA6FC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D6F53-446A-418F-A634-1356A865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9DB-8F84-402B-9C09-6F768CC1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A3D1F-6FD8-4EB0-9DA5-2CB3040B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52B4E-734D-400B-9BE0-0D8A5ACB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0CF4B-94B2-46D8-BF3F-EC7BE37E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281B4-523F-4478-9B3C-C98AFFFD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8CD50-810A-4347-9C13-77C49F2B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F26AE-77ED-4546-9E70-F9D9849D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180E3-6BBF-4694-AA06-417B510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EA2C7-2E0E-4724-913A-4B0AA033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A8488-0199-45F7-B2A0-B380656F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A26CB-C022-47A6-8032-27A7EAC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D41-6982-47D7-B2E0-AF3CBA39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14D8E0-EFD3-4AD0-B5F5-13A87CB5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2B804-ED16-4161-9540-7F522F2F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1CE84-4137-47BB-9643-6150458A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7C5F9-CB07-47BA-A3EE-7F957F7B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9A8C8-6B6F-4953-9965-2768B78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7434C-FF7F-4BD3-A9AD-36AF482A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2B25A-A6B1-4F98-8D53-CE1869BB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656C4-EC4F-4D9B-A4F2-186F4CC2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010B08-2189-4573-B069-D3B82E3D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7E7F4-EDD3-4281-B242-BDCF03B8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D18-3ECE-4BD7-B459-EA39B540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F4AFF-8627-41C3-B363-87FF5A26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17733-B9D4-414B-A65D-DC1836F9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8191C-DAB1-4051-A94D-39EDBEF5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34810-8E85-4F95-893E-732E7597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002C1-1BD6-4377-8E55-5E6A30E7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806-8E5C-4EA1-9ED8-330B432B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99F7-2629-4C15-940A-9AE21DD48CC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ector reto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ângu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9B4A-240F-4B2E-ACA2-41478EBC703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A1EA-7D86-49F2-9DFB-FB60EA837AFB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ector reto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FEA2-2917-492A-9DF9-0198C6C34F87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82BF-4035-459E-B686-25C127689F32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ector reto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ângu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10B4-3F21-462F-9589-CD2D91D35B0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ector reto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BF75-46B0-4CF8-B911-21D3E62EB048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AAAANNNGGG.jpg"/>
          <p:cNvPicPr/>
          <p:nvPr/>
        </p:nvPicPr>
        <p:blipFill>
          <a:blip r:embed="rId1"/>
          <a:stretch/>
        </p:blipFill>
        <p:spPr>
          <a:xfrm>
            <a:off x="142920" y="357120"/>
            <a:ext cx="8466120" cy="6215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575f6d"/>
                </a:solidFill>
                <a:latin typeface="Arial Black"/>
              </a:rPr>
              <a:t>ESCOLA</a:t>
            </a:r>
            <a:br>
              <a:rPr sz="3000"/>
            </a:br>
            <a:r>
              <a:rPr b="1" lang="pt-BR" sz="3000" spc="-1" strike="noStrike">
                <a:solidFill>
                  <a:srgbClr val="575f6d"/>
                </a:solidFill>
                <a:latin typeface="Arial Black"/>
              </a:rPr>
              <a:t> ESTADUAL ANGELINA JAIME TEB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285880" y="5357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entury Schoolbook"/>
              </a:rPr>
              <a:t>O compromisso é a educaçã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04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AS TECNOLOGIAS DISPONÍVEIS NA SUA ESCOL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85840" y="928800"/>
          <a:ext cx="7929360" cy="5994360"/>
        </p:xfrm>
        <a:graphic>
          <a:graphicData uri="http://schemas.openxmlformats.org/drawingml/2006/table">
            <a:tbl>
              <a:tblPr/>
              <a:tblGrid>
                <a:gridCol w="571320"/>
                <a:gridCol w="1071720"/>
                <a:gridCol w="6286320"/>
              </a:tblGrid>
              <a:tr h="94644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uant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po de Tecn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a Util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ome The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de sonorização. E utilizado para distribuição do som, com maior qualidade, na da sala de tecnolog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âmera 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al para registrar eventos ou projetos que são desenvolvidos na es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a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que projeta  imagens.  Aparelho muito utilizado, pois projeta  imagens do computador em um painel ou parede, sem a necessidade de outro aparelh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m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para a produção de vídeos. Utilizada em atividades de entrevistas, reportagens e Festival de Curta Metrag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cro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tilizado para a reprodução de musicas, como o Hino nacional , e outras atividades da esco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tro Proje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smo principio de funcionamento de um data show que este projeta imagens através de uma transparê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a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utilizado para digitalizar imag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ídeo Cass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te aparelho, exerce a mesma função de uma aparelho de DVD só que é muito pouco utiliz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142920" y="227160"/>
          <a:ext cx="7929360" cy="6649920"/>
        </p:xfrm>
        <a:graphic>
          <a:graphicData uri="http://schemas.openxmlformats.org/drawingml/2006/table">
            <a:tbl>
              <a:tblPr/>
              <a:tblGrid>
                <a:gridCol w="570960"/>
                <a:gridCol w="1571040"/>
                <a:gridCol w="5640120"/>
                <a:gridCol w="147600"/>
              </a:tblGrid>
              <a:tr h="6318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croscóp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quirido pela professor Adriana da sala de Tecnologia por meio de proj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de DV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utilizado para reprodução de víd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ess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a imprimir os trabalhos realizados na STE ou até mesmo para a confecção de carta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arelho áudio visual. Associados ao aparelho de dvd, são utilizados para reproduzir filmes (ou trechos destes), documentários, entrevist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lef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principal atividade do telefone seria a comunicação, soque também utilizamos sua linha para se conectar com o mundo digital (inter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rramentas que facilitam e organizam alguns trabalhos e estudos, podemos utilize-los em aulas inter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gridSpan="4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LA DE RECURSOS D.A E D.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ess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a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V de 32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28400" y="0"/>
            <a:ext cx="8396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 uso das Tecnologias veio para beneficiar todos os alunos inclusive a Primeira Fase A – 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F:\DCIM\104CASIO\CIMG0851.JPG"/>
          <p:cNvPicPr/>
          <p:nvPr/>
        </p:nvPicPr>
        <p:blipFill>
          <a:blip r:embed="rId1"/>
          <a:stretch/>
        </p:blipFill>
        <p:spPr>
          <a:xfrm>
            <a:off x="1285920" y="100008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3:22:57Z</dcterms:created>
  <dc:creator>Moises</dc:creator>
  <dc:description/>
  <dc:language>en-US</dc:language>
  <cp:lastModifiedBy>Moises</cp:lastModifiedBy>
  <dcterms:modified xsi:type="dcterms:W3CDTF">2010-05-12T04:02:02Z</dcterms:modified>
  <cp:revision>6</cp:revision>
  <dc:subject/>
  <dc:title>Escola  estadual angelina jaime tebet</dc:title>
</cp:coreProperties>
</file>